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54EB-250B-4F98-8472-31B2DD60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8F3-60BB-433A-8748-8CE3EFC5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00C-315E-4B59-9E73-6E1B479D1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8A1-40AF-42F3-A78B-7F11270C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50D8-D42E-41D2-812F-898F439E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5D60-ADA5-44B2-AF07-0E254B5B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93F8-AF7B-4636-8D03-8A952672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92F0-E0EA-4974-BDE7-780FE59E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17FB-9832-462E-8B00-DD1C814F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D9FD-AC8E-4EB5-9B57-1B42602D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C144-DE27-4E89-AB93-8523DE3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4F6-2CAA-4908-9926-B15043B3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0952-D823-4650-9AA7-8CB171E5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5216-BF88-457B-9BC5-157B5D71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C219-B028-41E1-9DED-D6EEEC4B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F33D-FC3B-4A91-AED2-2C542C7C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ABFA-526D-4EC4-817E-F2D46B7A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EA1-680C-4AFF-9171-3899BB46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8B9-CA44-4BA3-AC93-078774C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B58-A5CE-4FF1-9FCB-19E745B1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0D7-A592-4AC5-BA3E-A4CB4A97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3C2-669B-4289-8B78-85874752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F5E-086C-4F6A-8423-A96F3481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5FB5-4171-4DC1-8A2C-B3CF37FA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D346-EEB0-4B00-ABB1-E3B5475600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4A15-4B40-4507-AA6E-B1EB3A67B7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4724280"/>
            <a:ext cx="7772400" cy="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Build your Rounding Muscles!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14280"/>
            <a:ext cx="495288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hat does rounding mean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round to a place value of a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you are rounding to will stay the same, or go up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      or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numbers to the right turn into zer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       or      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Will is stay the same or go up?</a:t>
            </a:r>
            <a:br>
              <a:rPr sz="4400"/>
            </a:br>
            <a:r>
              <a:rPr b="0" lang="en-US" sz="2000" spc="-1" strike="noStrike">
                <a:solidFill>
                  <a:srgbClr val="420000"/>
                </a:solidFill>
                <a:latin typeface="Times New Roman"/>
              </a:rPr>
              <a:t>Look at the number to the right of the number you are rounding to!</a:t>
            </a:r>
            <a:endParaRPr b="0" lang="en-US" sz="2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45, if you are rounding to the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4 will be the number we will look 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umber is stro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6,7,8,9, then the number y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rounding to goes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umber is wea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1,2,3,4, then the number you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ing to stays the s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3048120"/>
            <a:ext cx="1835280" cy="148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943600" y="4952880"/>
            <a:ext cx="61596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Practice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our number is 645, we will look at the 4 to see whether the 6 will stay 6 or turn into 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is a weak number!  So, 6 will stay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numbers turn into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… 645 round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724280"/>
            <a:ext cx="2743200" cy="17528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5105520"/>
            <a:ext cx="190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ore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 to the nearest 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76 to the nearest 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,765 to the nearest hund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teacher can help you with mo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 song to help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y 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two, stay the s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, four, stay the s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, two, three, four, stay the sa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, six, round u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, eight, round u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, six, seven, eight, round up, and ni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20:10:32Z</dcterms:created>
  <dc:creator> </dc:creator>
  <dc:description/>
  <dc:language>en-US</dc:language>
  <cp:lastModifiedBy> </cp:lastModifiedBy>
  <dcterms:modified xsi:type="dcterms:W3CDTF">2008-04-29T20:39:16Z</dcterms:modified>
  <cp:revision>7</cp:revision>
  <dc:subject/>
  <dc:title>Build your Rounding Muscles!</dc:title>
</cp:coreProperties>
</file>